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1F6C-1CE7-4AD5-B316-89F036ECF6F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hyperlink" Target="http://pl.wikipedia.org/wiki/Wielkopolska" TargetMode="External"/><Relationship Id="rId2" Type="http://schemas.openxmlformats.org/officeDocument/2006/relationships/slide" Target="../slides/slide42.xml"/><Relationship Id="rId3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amiętnik napisany został w języku hebrajsk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amiętnik napisany po polsk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amiętniki polskie już nie. Ur. we Lwowie w rodzinie żydowskiej, wyjechał do Holandii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ziennikarz, reżyser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yt. oryg. niderl.: [Jonge ja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ragment artykułu przedmiotowego w obecnej form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yt. oryg.: [Ha-derekh le-her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utorka amerykańska; oryg. W języku angielsk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pisane są ówczesną potoczną polszczyzną używaną w </a:t>
            </a:r>
            <a:r>
              <a:rPr b="0" lang="pl-PL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ielkopolsc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lfred Jarry, portrait imaginaire" - Illustration d'André STAS pour La collection d'un agité du bocal : représentations ubuesques et pataphysiques. Gallerie "Marc Ways"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906E-56F6-45E3-B894-42231E29F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2074-D4B2-49CC-8153-1ED9B0BE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B63B-E610-40F8-9A98-152CC19C3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8AE3-E48F-499C-9E03-3C68AA44D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ECAB-C828-442A-AB28-35F14AF2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18A9-E6A7-48FF-9A11-7D3D82D9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7186-45F5-4C00-9069-FF1E35FA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762A-1B96-4DA8-8915-E4E53C7C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5657-C00B-4769-A894-5DDA8EEF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AE9A-4B5F-4C63-B945-84D2864F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0790-470B-40B1-9922-BF2E3850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3547-B5DA-49DF-9CBA-E3B78C79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03E1-B731-4904-B235-1AC1673A25E1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catalog.loc.gov/cgi-bin/Pwebrecon.cgi?SC=Title&amp;SEQ=20090527045542&amp;PID=FENd_88BP4H7MccsX9m0g_fFyRp&amp;SA=Antygona+w+Nowym+Jorku.+English." TargetMode="External"/><Relationship Id="rId2" Type="http://schemas.openxmlformats.org/officeDocument/2006/relationships/hyperlink" Target="http://catalog.loc.gov/cgi-bin/Pwebrecon.cgi?SC=Title&amp;SEQ=20090527045542&amp;PID=FENd_88BP4H7MccsX9m0g_fFyRp&amp;SA=Antygona+w+Nowym+Jorku.+English." TargetMode="External"/><Relationship Id="rId3" Type="http://schemas.openxmlformats.org/officeDocument/2006/relationships/hyperlink" Target="http://catalog.loc.gov/cgi-bin/Pwebrecon.cgi?SC=Title&amp;SEQ=20090527045542&amp;PID=FENd_88BP4H7MccsX9m0g_fFyRp&amp;SA=Antygona+w+Nowym+Jorku.+English." TargetMode="External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catalog.loc.gov/cgi-bin/Pwebrecon.cgi?SC=Title&amp;SEQ=20090527045815&amp;PID=FENd700nCeM_kLJx3Yc_fz_qdt&amp;SA=Czwarta+siostra.+English" TargetMode="External"/><Relationship Id="rId2" Type="http://schemas.openxmlformats.org/officeDocument/2006/relationships/hyperlink" Target="http://catalog.loc.gov/cgi-bin/Pwebrecon.cgi?SC=Title&amp;SEQ=20090527045815&amp;PID=FENd700nCeM_kLJx3Yc_fz_qdt&amp;SA=Czwarta+siostra.+English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d1cb"/>
                </a:solidFill>
                <a:latin typeface="Arial"/>
              </a:rPr>
              <a:t>Opracowanie przedmiotowe</a:t>
            </a:r>
            <a:br>
              <a:rPr sz="3600"/>
            </a:br>
            <a:r>
              <a:rPr b="0" lang="en-US" sz="3600" spc="-1" strike="noStrike">
                <a:solidFill>
                  <a:srgbClr val="d1d1cb"/>
                </a:solidFill>
                <a:latin typeface="Arial"/>
              </a:rPr>
              <a:t>zmiany</a:t>
            </a:r>
            <a:endParaRPr b="0" lang="en-US" sz="36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909082"/>
          </a:solidFill>
          <a:ln w="0">
            <a:noFill/>
          </a:ln>
          <a:effectLst>
            <a:outerShdw dist="36147" dir="2700000" blurRad="0" rotWithShape="0">
              <a:srgbClr val="777777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Arial"/>
              </a:rPr>
              <a:t>Joanna Kędziels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51280" y="4581360"/>
            <a:ext cx="112392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jhp b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rzestrzenie fantastyki : twórczość Tommaso Landolfiego / Monika              Woźnia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Landolfi, Tommaso (1908-1979) – twórczoś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Literatura fantastyczna włoska -- historia -- 20 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Heretycy i prawomyślni : rosyjska proza fantastyczna po roku 1917 wobec koncepcji "nowego człowieka" / Tatiana Stepnowsk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Literatura fantastyczna rosyjska -- historia -- 20 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Realizm socjalistyczny -- literatura rosyjs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Poza światem... : baśniowość, magia, oniryzm w literaturze / p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red. Marzeny Woźniak-Łabieniec i Tomasza Cieślak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Literatura fantastyczna -- historia -- materiały konferencyj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Magia – w  literaturze-- materiały konferencyj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Sen – w  literaturze -- materiały konferencyj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ce fiction writers : critical studies of the major auth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the early 19th century to the present day / E. F. Bleiler,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Literatura fantastyczno-naukowa amerykańska -- biografie -- słown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Literatura fantastyczno-naukowa amerykańska -- bibliograf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Literatura fantastyczno-naukowa angielska -- biografie – słown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Literatura fantastyczno-naukowa angielska – bibliograf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isarze amerykańscy -- biografie - 19-20 w.– słown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isarze angielscy -- biografie  19-20 w.-- słown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Tematy te są teraz – </a:t>
            </a:r>
            <a:r>
              <a:rPr b="0" lang="pl-PL" sz="2800" spc="-1" strike="noStrike" u="sng">
                <a:solidFill>
                  <a:srgbClr val="ffffff"/>
                </a:solidFill>
                <a:uFillTx/>
                <a:latin typeface="Arial"/>
              </a:rPr>
              <a:t>jak większość tematów z dziedziny literatury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– tematami językowo-etnicznymi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Literatura fantastyczna polska, niemiecka etc., a ich obecny kształt umożliw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stosowanie konstrukcji z „a”  , np.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Literatura fantastyczna amerykańska-- a Literatura fantastyczna angielska--stylistyk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Literatura fantastyczna angielska--a Literatura fantastyczna amerykańska-stylisty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Dawniej musieliśmy wyrażać to przy pomocy 4 tematów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Fantastyka-literatura amerykańska-stylisty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Fantastyka-literatura angielska-stylisty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Literatura amerykańska –a Literatura angielska-stylisty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Literatura angielska-a Literatura amerykańska-stylisty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Obecne rozwiązanie  ułatwia tematowanie jest bardziej „elastyczne” , ekonomiczne i – mam nadzieję- zgodne z oczekiwaniami użytkownik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amiętniki żydowskie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miętniki żydowsk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S Literatura żydows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eratura żydows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 Literatura izraels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 Literatura jidys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S Literatury germańsk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S Żydzi-kultur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K Literatura hebrajska […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miętniki hebrajsk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S Literatura hebrajs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73760" y="1827720"/>
            <a:ext cx="5514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teratura hebrajs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 Literatura izraels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 Literatura ludowa hebrajs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S Literatury oriental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S Żydzi kult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K Literatura żydowska […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1268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d1d1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sowane do niedawna rozwiązanie słownikow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ntastyka-literatura zastąpione zostało hasł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teratura fantastyczn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aś Fantastyka naukowa-literatura  hasł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teratura fantastyczno-naukowa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571840" y="1952640"/>
            <a:ext cx="3878280" cy="3503520"/>
            <a:chOff x="2571840" y="1952640"/>
            <a:chExt cx="3878280" cy="3503520"/>
          </a:xfrm>
        </p:grpSpPr>
        <p:sp>
          <p:nvSpPr>
            <p:cNvPr id="90" name="_s96261"/>
            <p:cNvSpPr/>
            <p:nvPr/>
          </p:nvSpPr>
          <p:spPr>
            <a:xfrm flipH="1">
              <a:off x="3574800" y="4376880"/>
              <a:ext cx="469800" cy="269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_s96262"/>
            <p:cNvSpPr/>
            <p:nvPr/>
          </p:nvSpPr>
          <p:spPr>
            <a:xfrm>
              <a:off x="2571840" y="4378320"/>
              <a:ext cx="1077840" cy="1077840"/>
            </a:xfrm>
            <a:prstGeom prst="ellipse">
              <a:avLst/>
            </a:prstGeom>
            <a:solidFill>
              <a:srgbClr val="90908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ne język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_s96263"/>
            <p:cNvSpPr/>
            <p:nvPr/>
          </p:nvSpPr>
          <p:spPr>
            <a:xfrm>
              <a:off x="4975200" y="4376880"/>
              <a:ext cx="468360" cy="27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_s96264"/>
            <p:cNvSpPr/>
            <p:nvPr/>
          </p:nvSpPr>
          <p:spPr>
            <a:xfrm>
              <a:off x="5371920" y="4378320"/>
              <a:ext cx="1078200" cy="1077840"/>
            </a:xfrm>
            <a:prstGeom prst="ellipse">
              <a:avLst/>
            </a:prstGeom>
            <a:solidFill>
              <a:srgbClr val="90908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Język hebrajsk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_s96265"/>
            <p:cNvSpPr/>
            <p:nvPr/>
          </p:nvSpPr>
          <p:spPr>
            <a:xfrm flipV="1">
              <a:off x="4510080" y="3029040"/>
              <a:ext cx="0" cy="54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_s96266"/>
            <p:cNvSpPr/>
            <p:nvPr/>
          </p:nvSpPr>
          <p:spPr>
            <a:xfrm>
              <a:off x="3971880" y="1952640"/>
              <a:ext cx="1077840" cy="1077840"/>
            </a:xfrm>
            <a:prstGeom prst="ellipse">
              <a:avLst/>
            </a:prstGeom>
            <a:solidFill>
              <a:srgbClr val="90908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Język Jidysz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_s96267"/>
            <p:cNvSpPr/>
            <p:nvPr/>
          </p:nvSpPr>
          <p:spPr>
            <a:xfrm>
              <a:off x="3971880" y="3570480"/>
              <a:ext cx="1077840" cy="1077840"/>
            </a:xfrm>
            <a:prstGeom prst="ellipse">
              <a:avLst/>
            </a:prstGeom>
            <a:solidFill>
              <a:srgbClr val="90908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amiętniki Żydów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iedawna tematem  : Pamiętniki żydowskie opatrywano jedynie teksty napisane w języku  jidysz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 myśl wprowadzonej właśnie zmiany zezwala się na użycie takiej charakterystyki także dla  pamiętników napisanych w języku innym niż jidysz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d1d1cb"/>
                </a:solidFill>
                <a:latin typeface="Arial"/>
              </a:rPr>
              <a:t>W kuchni mamy Soni / Janusz Tencer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Dotychczasowy op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Tencer, Janusz -- pamiętnik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Kuchnia żydows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Mniejszości narodowe -- Polska -- od 1944 r. -- pamiętnik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Pamiętniki polskie -- od 1944 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Żydzi -- Polska -- od 1944 r. – pamiętnik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Uzupełniamy o hasł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ffffff"/>
                </a:solidFill>
                <a:uFillTx/>
                <a:latin typeface="Arial"/>
              </a:rPr>
              <a:t>Pamiętniki żydowskie- od 1945 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łniamy w ten sposób postulat użytkowników, którzy chcieli by pamiętniki żydowskie-  bez względu na język w jakim je napisano- można było wyszukiwać właśnie przez ten temat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asada t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ie będzie dotyczył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amiętników napisanych po hebrajsku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Zakładamy, że odsyłacz: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amiętniki żydowskie zob. te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K Pamiętniki hebrajskie  jest zrozumiały dla użytkownika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967120" y="1600200"/>
            <a:ext cx="3209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nt w Treblinc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/ Samuel Willenbe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Willenberg, Samue|-pamiętnik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Obóz hitlerowski Treblinka II-ruch oporu-pamiętnik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Holocaust-pamiętnik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Mniejszości narodowe-Polska-1939-1945 r.-pamiętnik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Pamiętniki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hebrajskie-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1939-1945 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Ruch oporu-Żydzi-Polska-pamiętnik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Żydzi-Polska-1939-1945 r.-pamiętnik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a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amiętniki żydowski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odawany będzie do pamiętników napisanych przez Żydów i dotyczących tematyki żydowskiej jeśli napisane zostały w innym niż jidysz język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kument taki powinien otrzymać (tak jak to było do tej pory robione) drugie hasło Pamiętniki z dopowiedzeniem językowo-etnicznym wskazującym na kraj pobytu auto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d1d1cb"/>
                </a:solidFill>
                <a:latin typeface="Arial"/>
              </a:rPr>
              <a:t>Dzieci doktora Korczaka / Israel Zyngman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Korczak, Janusz (1878?-1942) – pamiętni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Zyngman, Izrael--pamiętni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Domy dziecka -- Polska -- 1918-1939 r. -- pamiętni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amiętniki polskie -- 20 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amiętniki żydowskie—20 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Żydzi -- Polska -- 1918-1939 r. -- pamiętni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d1d1cb"/>
                </a:solidFill>
                <a:latin typeface="Arial"/>
              </a:rPr>
              <a:t>.</a:t>
            </a:r>
            <a:br>
              <a:rPr sz="2400"/>
            </a:br>
            <a:r>
              <a:rPr b="1" lang="pl-PL" sz="2400" spc="-1" strike="noStrike">
                <a:solidFill>
                  <a:srgbClr val="d1d1cb"/>
                </a:solidFill>
                <a:latin typeface="Arial"/>
              </a:rPr>
              <a:t>Dziecko ze Lwowa / Milo Anstadt ; przeł. Małgorzata Zdzienicka.</a:t>
            </a:r>
            <a:endParaRPr b="0" lang="en-US" sz="2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Anstadt, Milo (1920- )--pamiętni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Mniejszości narodowe -- Polska -- 1918-1939 r. -- pamiętni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Pamiętniki holenderskie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-- 1918-1939 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ff"/>
                </a:solidFill>
                <a:latin typeface="Arial"/>
              </a:rPr>
              <a:t>Pamiętniki żydowskie—1918-1939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Żydzi -- Polska -- 1918-1939 r. -- pamiętni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Lwów (Ukraina) -- 1918-1939 r. -- pamiętni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Literatura fantastycz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NU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Fantastyka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literatu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NU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Literatura fantas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TS Fantasty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TS Literatura-rodzaje i gatunki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TW Literatura fantastyczno-naukow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Ludzie są wszędzie / Józef Halperin ; [tł. Józef Halperin, współpr. Zoja Perelmuter]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Halperin, Józef|d(1922- )--pamiętnik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Mniejszości narodowe-Polska-1939-1945 r.-pamiętnik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Pamiętniki hebrajskie-20 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Żydzi-emigracja-Izrael-1945-1989 r.-pamiętnik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Żydzi-Polska-1939-1945 r.-pamiętnik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d1d1cb"/>
                </a:solidFill>
                <a:latin typeface="Arial"/>
              </a:rPr>
              <a:t>Wilk na strychu :|bwspomnienia dziecka ocalonego z Holocaustu /</a:t>
            </a:r>
            <a:br>
              <a:rPr sz="1800"/>
            </a:br>
            <a:r>
              <a:rPr b="1" lang="pl-PL" sz="1800" spc="-1" strike="noStrike">
                <a:solidFill>
                  <a:srgbClr val="d1d1cb"/>
                </a:solidFill>
                <a:latin typeface="Arial"/>
              </a:rPr>
              <a:t>           Sophia Richman ; wstęp Spyros D. Orfanos ; z ang. przeł. Danuta</a:t>
            </a:r>
            <a:br>
              <a:rPr sz="1800"/>
            </a:br>
            <a:r>
              <a:rPr b="1" lang="pl-PL" sz="1800" spc="-1" strike="noStrike">
                <a:solidFill>
                  <a:srgbClr val="d1d1cb"/>
                </a:solidFill>
                <a:latin typeface="Arial"/>
              </a:rPr>
              <a:t>            Waydenfeld, Stefan Waydenfeld.</a:t>
            </a:r>
            <a:br>
              <a:rPr sz="1800"/>
            </a:br>
            <a:endParaRPr b="0" lang="en-US" sz="18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Richman, Sophia (1941- )--pamiętni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Dziecko-Żydzi-Polska-1939-1945 r.-pamiętni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Mniejszości narodowe-Polska-1939-1945 r. --pamiętni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amiętniki amerykańskie--1939-1945 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amiętniki żydowskie--1939-1945 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Lwów (Ukraina)-1939-1945 r.--pamiętni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Literatura grecka nowożytna 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755800" y="2048040"/>
            <a:ext cx="363060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likwidowano temat Literatura grecka nowożytna i powiązane z nim tematy z określeniem nowożytna/e. W zastosowaniu będzie temat Literatura grecka z odpowiednimi określnikami chronologicznymi. Zmiana ta dotyczy także innych gatunków literackich grecki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d1d1cb"/>
                </a:solidFill>
                <a:latin typeface="Arial"/>
              </a:rPr>
              <a:t>Kawafis Aleksandryjczyk / Zygmunt Kubiak.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Kabafes, Konstantinos Petrou (1863-1933) – biograf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oezja grecka -- historia -- 19-20 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oeci Nowej Grecji / wybrał, przełożył [z grec.], wstępem 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komentarzami opatrzył Janusz Strasburg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oezja grecka -- 18-20 w. -- antolog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Antologia poezji nowogreckiej / wybrał, przeł. i oprac. Zygmunt  Kubia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Poezja grecka -- 15-20 w. -- antolog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762520" y="2552760"/>
            <a:ext cx="180972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d1cb"/>
                </a:solidFill>
                <a:latin typeface="Arial"/>
              </a:rPr>
              <a:t>określnik – stylistyka po tematach wyrażających księgi święte i dzieła anonimowe i po tematach – autor-tytuł</a:t>
            </a:r>
            <a:endParaRPr b="0" lang="en-US" sz="28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533760" y="2494080"/>
            <a:ext cx="259560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Zasada ogólna: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kreślnik -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ylistyk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stosuje się po nazwach języków, literatur i gatunków literackich. W przypadku tych tematów nie należy stosować określnika – język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dobnie: po temat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yrażających księg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święte i dzieł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onimowe nie używamy określnika język tylko określnika stylistyk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746680" y="2941560"/>
            <a:ext cx="184140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Literatura fantastyczno-naukow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NU Fantastyka naukowa-literatu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NU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Literatura science fi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TS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Literatura fantastycz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Fantastyka naukow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ies in Mishnaic Hebrew /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. by Moshe Bar-Asher ; ass. 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ven E. Fassber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lmud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--stylisty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ęzyk hebrajski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-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to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Wprowadzenie do hebrajszczyzny biblijnej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Biblia.ST-stylistyka-podręczni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Język hebrajski-gramatyka-do 1 w.-podręczni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ęzyk kazań gnieźnieńskich na tle języka epok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zania gnieźnieńskie- stylisty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ęzyk łaciński-stylistyka-13-15 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ęzyk polski-stylistyka-15 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elkopolska-język- 15 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Określnik stylistyka po tematach Autor-tytuł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 tematach Autor –tytuł dla wyrażenia zagadnień językowych używamy tylko określnika stylistyka ( a nie- języ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ffff"/>
                </a:solidFill>
                <a:latin typeface="Arial"/>
              </a:rPr>
              <a:t>Grówno</a:t>
            </a:r>
            <a:endParaRPr b="0" lang="en-US" sz="48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Słowotwórstwo Jarrego na przykładzie Króla Ub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648320" y="2021040"/>
            <a:ext cx="403848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rry, Alfred (1873-1907). Ubu roi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- stylisty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Dramat francuski- stylistyka-19 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Język francuski-słowotwórstwo-19 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218200" y="1600200"/>
            <a:ext cx="2897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Kłopoty z wieżą Babel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57150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Tematowanie utworów literackich funkcjonujących w dwóch (lub więcej) obiegach literacki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Opis przedmiotowy winien zawsze odzwierciedlać autorskie wersje językowe utwor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Za autorską wersję językową uznajemy także </a:t>
            </a:r>
            <a:r>
              <a:rPr b="1" lang="pl-PL" sz="2800" spc="-1" strike="noStrike" u="sng">
                <a:solidFill>
                  <a:srgbClr val="ffffff"/>
                </a:solidFill>
                <a:uFillTx/>
                <a:latin typeface="Arial"/>
              </a:rPr>
              <a:t>przekład dzieła dokonany przez pisarza –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 (nawet jeśli autor jest tylko współtłumaczem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ffcc66"/>
                </a:solidFill>
                <a:uFillTx/>
                <a:latin typeface="Arial"/>
                <a:hlinkClick r:id="rId1"/>
              </a:rPr>
              <a:t>Antygona w Nowym Jorku. </a:t>
            </a:r>
            <a:r>
              <a:rPr b="0" lang="pl-PL" sz="3200" spc="-1" strike="noStrike" u="sng">
                <a:solidFill>
                  <a:srgbClr val="ffcc66"/>
                </a:solidFill>
                <a:uFillTx/>
                <a:latin typeface="Arial"/>
                <a:hlinkClick r:id="rId2"/>
              </a:rPr>
              <a:t>English</a:t>
            </a:r>
            <a:r>
              <a:rPr b="0" lang="pl-PL" sz="3200" spc="-1" strike="noStrike" u="sng">
                <a:solidFill>
                  <a:srgbClr val="ffcc66"/>
                </a:solidFill>
                <a:uFillTx/>
                <a:latin typeface="Arial"/>
                <a:hlinkClick r:id="rId3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gone in New York / by Janusz Glowacki ;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ranslated by Janusz Glowack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Joan Tor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Dramat amerykański- 20 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Dramat polski- 20 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ffcc66"/>
                </a:solidFill>
                <a:uFillTx/>
                <a:latin typeface="Arial"/>
                <a:hlinkClick r:id="rId1"/>
              </a:rPr>
              <a:t>Czwarta siostra. </a:t>
            </a:r>
            <a:r>
              <a:rPr b="0" lang="pl-PL" sz="3200" spc="-1" strike="noStrike" u="sng">
                <a:solidFill>
                  <a:srgbClr val="ffcc66"/>
                </a:solidFill>
                <a:uFillTx/>
                <a:latin typeface="Arial"/>
                <a:hlinkClick r:id="rId2"/>
              </a:rPr>
              <a:t>Engli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urth sister / by Janusz Glowacki ; translated by Eva Nagorski and Janusz Glowack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Dramat amerykański- 20 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Dramat polski- 20 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teratura fantastyczna angiels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S Literatura angiels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 Literatura fantastyczno-naukowa angiels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 Powieść fantastyczna angiels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W wypadku takim jak wyżej, tzn. gdy pisarz tworzy innojęzyczna wersję swojego utworu w języku używanym w  wielu krajach – np.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angielski- w Stanach Zjednoczonych, Wielkiej Brytanii i Austral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arabski-w Palestynie,  Omanie, Kuwejcie Iraku itd. – drugi temat (ten, który nie wyraża literatury w języku ojczystym) wskazuje kraj z którym pisarz jest najsilniej związany zawodowo. (w przypadku Głowackiego – Stany Zjednoczone, a zatem – dramat amerykański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Czy powinniśmy w ten sam sposób opisać </a:t>
            </a:r>
            <a:r>
              <a:rPr b="1" lang="pl-PL" sz="2000" spc="-1" strike="noStrike">
                <a:solidFill>
                  <a:srgbClr val="ffcc66"/>
                </a:solidFill>
                <a:latin typeface="Arial"/>
              </a:rPr>
              <a:t>wszystkie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utwory tego pisarza? Jego proza – opowiadania, powieści, wspomnienia napisana jest po polsku  i- uwaga!- nie  ma innej- autorskiej wersji językowej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Czy mimo to- wiedząc, że Janusz Głowacki funkcjonuje w obu środowiskach literackich- mamy również dla tych dzieł dawać opis podwójn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A zatem czy n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pl-PL" sz="2000" spc="-1" strike="noStrike">
                <a:solidFill>
                  <a:srgbClr val="ffcc66"/>
                </a:solidFill>
                <a:latin typeface="Arial"/>
              </a:rPr>
              <a:t>Opowiadania wybrane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” i „</a:t>
            </a:r>
            <a:r>
              <a:rPr b="1" lang="pl-PL" sz="2000" spc="-1" strike="noStrike">
                <a:solidFill>
                  <a:srgbClr val="ffcc66"/>
                </a:solidFill>
                <a:latin typeface="Arial"/>
              </a:rPr>
              <a:t>My sweet Raskolnikow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” Janusza Głowackiego wydane  przed wyjazdem z kraju i nigdy przez autora nie przetłumaczone na angielsk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scharakteryzujemy jak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cc66"/>
                </a:solidFill>
                <a:latin typeface="Arial"/>
              </a:rPr>
              <a:t>Opowiadanie amerykańskie-20 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cc66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cc66"/>
                </a:solidFill>
                <a:latin typeface="Arial"/>
              </a:rPr>
              <a:t>Opowiadanie polskie-20 w. 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e, ponieważ opowiadanie polskie jest zawsze tylko opowiadaniem polskim bez względu na to gdzie zostało napisane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żemy powiedzieć, że Pan Głowacki jest amerykańskim pisarzem polskiego pochodzenia, albo że jest pisarzem polskim i amerykańskim ale nie możemy jego polskich tekstów nazwać literaturą amerykańsk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ffcc66"/>
                </a:solidFill>
                <a:uFillTx/>
                <a:latin typeface="Arial"/>
              </a:rPr>
              <a:t>Ada albo Żar : kronika rodzinna</a:t>
            </a: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 / Vladimir Nabokov ; prze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Leszek Engel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(Oryginał angielski – brak wersji rosyjskiej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Powieść amerykańska -- 20 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ffcc66"/>
                </a:solidFill>
                <a:uFillTx/>
                <a:latin typeface="Arial"/>
              </a:rPr>
              <a:t>Dar </a:t>
            </a: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/ Vladimir Nabokov ; przeł. [z ros.] Eugenia Siemaszkiewicz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Powieść amerykańska -- 20 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Powieść rosyjska -- 20 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(Oryginał rosyjski + tłumaczenie autorskie na angielski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Przekład: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Dmitri Nabokov, Michael Scammell, Vladimir Nabok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ffcc66"/>
                </a:solidFill>
                <a:uFillTx/>
                <a:latin typeface="Arial"/>
              </a:rPr>
              <a:t>Zaproszenie na egzekucję</a:t>
            </a: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 / Vladimir Nabokov ; przeł. z ros. 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posłowiem opatrzył Leszek Engelk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(Oryginał rosyjski; przekład Dmitri Nabokow we współpracy z autore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Powieść amerykańska-- 20 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Powieść rosyjska -- 20 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Pisarze piszący </a:t>
            </a:r>
            <a:r>
              <a:rPr b="1" lang="en-US" sz="2800" spc="-1" strike="noStrike" u="sng">
                <a:solidFill>
                  <a:srgbClr val="ffcc66"/>
                </a:solidFill>
                <a:uFillTx/>
                <a:latin typeface="Arial"/>
              </a:rPr>
              <a:t>wyłącznie  w obcym języku</a:t>
            </a: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 poza granicami kraju pochodzenia.</a:t>
            </a:r>
            <a:endParaRPr b="0" lang="en-US" sz="28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381400" y="2548080"/>
            <a:ext cx="438120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cc66"/>
                </a:solidFill>
                <a:latin typeface="Arial"/>
              </a:rPr>
              <a:t>Joseph Conrad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Ich utwory tematujemy jako literaturę kraju, w którym piszą. Nie wskazujemy w żaden sposób kraju pochodzen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Np.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ffcc66"/>
                </a:solidFill>
                <a:uFillTx/>
                <a:latin typeface="Arial"/>
              </a:rPr>
              <a:t>Lord Jim</a:t>
            </a: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 / Joseph Conrad [pseud.] ; przeł. [z ang.] Anie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Zagórsk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Powieść angielska -- 19 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cc66"/>
                </a:solidFill>
                <a:latin typeface="Arial"/>
              </a:rPr>
              <a:t>Emil Cioran</a:t>
            </a:r>
            <a:r>
              <a:rPr b="0" lang="pl-PL" sz="4400" spc="-1" strike="noStrike">
                <a:solidFill>
                  <a:srgbClr val="d1d1cb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ffcc66"/>
                </a:solidFill>
                <a:uFillTx/>
                <a:latin typeface="Arial"/>
              </a:rPr>
              <a:t>Oeuvres</a:t>
            </a: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 / E. M. Cior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Aforyzmy francuskie -- 20 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Filozofia -- szkice literack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Szkice literackie francuskie -- 20 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(Emil Cioran urodzony w Rumunii , osiadł w Paryżu– pisał od 1949 r. -  niemal wyłącznie po francusku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Pisarze poza granicami kraju piszący wyłącznie w swoim ojczystym język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Ich teksty tematujemy tak jak pozostałą literaturę kraju pochodzenia. Nie wskazujemy w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opracowaniu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 przedmiotowym w żaden sposób miejsca pobytu pisarz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I tak np. utwory Iwana Bunina, który po rewolucji osiadł we Francji  tematujemy jako literaturę rosyjsk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d1d1cb"/>
                </a:solidFill>
                <a:latin typeface="Arial"/>
              </a:rPr>
              <a:t>Atlas Śródziemia / Karen Wynn Fonstad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Tolkien, J. R. R. (1892-1973) -- twórczoś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owieść fantastyczna angielska -- historia -- 20 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Śródziemie (kraina fikcyjna) -- ma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cc66"/>
                </a:solidFill>
                <a:latin typeface="Arial"/>
              </a:rPr>
              <a:t>Ivan Bunin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ffcc66"/>
                </a:solidFill>
                <a:uFillTx/>
                <a:latin typeface="Arial"/>
              </a:rPr>
              <a:t>Życie Arsieniewa</a:t>
            </a: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 : młodość / Iwan Bunin ; tł. Irena Bajkowsk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Maria Mongirdow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Powieść rosyjska -- 20 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???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Od niedawna funkcjonują w naszym języku hasła  typu pisarze polscy, francuscy itp. Można by się  wspólnie –korzystając z okazji,że tu wszyscy jesteśmy zastanowić czy nie dałoby się ich wykorzystać w opracowaniu tekstów literackich.(narazie używane są dla prac historycznoliterackich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???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I tak (posłużę się podanymi wyżej przykładami) – „Lord Jim” Conrada oprócz tema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owieść angielska -19 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Dostałby hasł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isarze polscy- Wielka Brytania -teksty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???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Bunina „Życie Arseniewa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Oprócz tema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owieść rosyjska-20 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dostałoby te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isarze rosyjscy-Francja-teksty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???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A „Oewrs „ Cior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Oprócz temató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Aforyzmy francuskie- 20 w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Szkice literackie francuskie – 20 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Miałyby te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isarze rumuńscy-Francja-teks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???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Można zastanawiać się i nad krokiem bardziej radykalnym czyli nad wprowadzeniem hasła (haseł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isarze pochodzenia … polskiego, rumuńskiego, rosyjskiegoJ.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J.Conra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isarze pochodzenia polskiego- Wielka Brytania-teks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???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drugie rozwiązanie lepiej oddaje istotę sprawy i wprowadza rozróżnienie między pojęcia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isarze kraju X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ykańscy, francuscy itp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isarze pochodzący z kraju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Stanów Zjednoczonych, Francji itp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???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Inne rozwiązani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J. Conr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owieść angielska- pisarze pochodzenia polskie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J.Głowac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Dramat amerykański – pisarze pols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owiadanie fantastyczne francusk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S Literatura fantastyczna francus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S Opowiadanie francusk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ouvelles fantastiques au XIXe sicle : jeu avec la peur /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          Magdalena Wandzioch.</a:t>
            </a:r>
            <a:br>
              <a:rPr sz="2400"/>
            </a:br>
            <a:endParaRPr b="0" lang="en-US" sz="2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owiadanie fantastyczne francuskie -- historia -- 19 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ęk – w  literaturze francuskie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ch – w literaturze francuskie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to pamiętać, że hasła typ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owiadanie fantastyczne, powieść fantastyczna używane są tylko dla prac omawiających te gatunki literackie – czyli innymi słowy, że nie wolno używać w opracowaniu przedmiotowym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ekstów literackic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2T08:23:45Z</dcterms:created>
  <dc:creator>j.kedzielska</dc:creator>
  <dc:description/>
  <dc:language>en-US</dc:language>
  <cp:lastModifiedBy>a.borowska</cp:lastModifiedBy>
  <dcterms:modified xsi:type="dcterms:W3CDTF">2009-06-01T06:08:33Z</dcterms:modified>
  <cp:revision>40</cp:revision>
  <dc:subject/>
  <dc:title>Opracowanie przedmiotowe zmiany</dc:title>
</cp:coreProperties>
</file>